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7BE7D-13D8-4971-B63B-1B98DCCCE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CFB21-00F5-414B-99D4-7AB33BC69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084D7-A09A-43BD-9808-FE98B1701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AD846-7950-45F6-9D04-C24327982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E4783D-4154-4C80-8D08-F649ED3AE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04DE81-188B-46B7-9707-396B9B1E9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2EB4D3-6ABC-4142-9C61-EF67DFCAC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A02165-7FF5-4209-B295-150F3FE48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B3D359-660C-44B7-9ADA-D0F3B8C80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C2E93F-CE73-4D5C-96FF-71FB83731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C7F5AF-76F1-4181-9E79-F17A3039F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CC50E-93D9-4B21-96C9-9590D3E94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059C7A-24A2-40E3-8305-E21094FCB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3D9DB3-FBD4-4004-AA0C-D9C921D37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6D817E-C0D0-4BAE-A5C7-39B28480D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1DF3C5-ABC3-4B33-A832-C001817FB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2F1096-19A3-47FB-A257-AAC9C85ED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1A606-605E-4E46-B0B4-588E3BCFC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4F75F-8868-4FEE-8641-43F18FD79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66BA8-DC91-4553-B5C6-8E585D151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483F3-0FC7-43FF-8FD3-085519643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03FEC-EA81-4772-8FF1-A9826C4F0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302DF-0174-4A0B-8BB8-E754D0E55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3BC45-6196-49C8-9C13-D84B94FEF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C5C4E-2FD3-4D45-B826-FF131DA946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>
              <a:gd name="textAreaLeft" fmla="*/ 0 w 1440"/>
              <a:gd name="textAreaRight" fmla="*/ 1800 w 1440"/>
              <a:gd name="textAreaTop" fmla="*/ 0 h 3035160"/>
              <a:gd name="textAreaBottom" fmla="*/ 3035520 h 3035160"/>
            </a:gdLst>
            <a:ahLst/>
            <a:rect l="textAreaLeft" t="textAreaTop" r="textAreaRight" b="textAreaBottom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0471F-6D63-48B5-A262-0619468C65C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2514600"/>
            <a:ext cx="64008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ession 11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Perspective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5" name="Picture 4" descr="samples TND"/>
          <p:cNvPicPr/>
          <p:nvPr/>
        </p:nvPicPr>
        <p:blipFill>
          <a:blip r:embed="rId1">
            <a:lum bright="6000"/>
          </a:blip>
          <a:srcRect l="52001" t="1546" r="2941" b="85641"/>
          <a:stretch/>
        </p:blipFill>
        <p:spPr>
          <a:xfrm>
            <a:off x="0" y="0"/>
            <a:ext cx="9144000" cy="19810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5" descr="Title"/>
          <p:cNvPicPr/>
          <p:nvPr/>
        </p:nvPicPr>
        <p:blipFill>
          <a:blip r:embed="rId2"/>
          <a:stretch/>
        </p:blipFill>
        <p:spPr>
          <a:xfrm>
            <a:off x="0" y="5638680"/>
            <a:ext cx="9144000" cy="1219320"/>
          </a:xfrm>
          <a:prstGeom prst="rect">
            <a:avLst/>
          </a:prstGeom>
          <a:ln w="0">
            <a:noFill/>
          </a:ln>
        </p:spPr>
      </p:pic>
      <p:sp>
        <p:nvSpPr>
          <p:cNvPr id="87" name="Text Box 6"/>
          <p:cNvSpPr/>
          <p:nvPr/>
        </p:nvSpPr>
        <p:spPr>
          <a:xfrm>
            <a:off x="6172200" y="533520"/>
            <a:ext cx="2743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2362320"/>
            <a:ext cx="64008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Radical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Lots of change; likes to shake things up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6172200" y="533520"/>
            <a:ext cx="2743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762120" y="6019920"/>
            <a:ext cx="25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Session 11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2361960"/>
            <a:ext cx="64008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raditional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Likes things the way they are; no change at al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6172200" y="533520"/>
            <a:ext cx="2743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Text Box 5"/>
          <p:cNvSpPr/>
          <p:nvPr/>
        </p:nvSpPr>
        <p:spPr>
          <a:xfrm>
            <a:off x="762120" y="6019920"/>
            <a:ext cx="25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Session 11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371600" y="2514600"/>
            <a:ext cx="64008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Moderate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In between; less extrem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6172200" y="533520"/>
            <a:ext cx="2743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762120" y="6019920"/>
            <a:ext cx="25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Session 11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0" y="457200"/>
            <a:ext cx="91440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6172200" y="533520"/>
            <a:ext cx="2743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762120" y="6019920"/>
            <a:ext cx="25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Session 11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Text Box 7"/>
          <p:cNvSpPr/>
          <p:nvPr/>
        </p:nvSpPr>
        <p:spPr>
          <a:xfrm>
            <a:off x="304920" y="2819520"/>
            <a:ext cx="274320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TRADITIONA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 change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Text Box 8"/>
          <p:cNvSpPr/>
          <p:nvPr/>
        </p:nvSpPr>
        <p:spPr>
          <a:xfrm>
            <a:off x="3429000" y="2819520"/>
            <a:ext cx="2590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MODERATE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alance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Text Box 9"/>
          <p:cNvSpPr/>
          <p:nvPr/>
        </p:nvSpPr>
        <p:spPr>
          <a:xfrm>
            <a:off x="6629400" y="2819520"/>
            <a:ext cx="213372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RADICA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jor change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0" y="457200"/>
            <a:ext cx="91440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Text Box 4"/>
          <p:cNvSpPr/>
          <p:nvPr/>
        </p:nvSpPr>
        <p:spPr>
          <a:xfrm>
            <a:off x="6172200" y="533520"/>
            <a:ext cx="2743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Text Box 5"/>
          <p:cNvSpPr/>
          <p:nvPr/>
        </p:nvSpPr>
        <p:spPr>
          <a:xfrm>
            <a:off x="762120" y="6019920"/>
            <a:ext cx="25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Session 11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Text Box 6"/>
          <p:cNvSpPr/>
          <p:nvPr/>
        </p:nvSpPr>
        <p:spPr>
          <a:xfrm>
            <a:off x="304920" y="2666880"/>
            <a:ext cx="2819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TRADITIONA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ll guns lega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Text Box 7"/>
          <p:cNvSpPr/>
          <p:nvPr/>
        </p:nvSpPr>
        <p:spPr>
          <a:xfrm>
            <a:off x="3505320" y="2666880"/>
            <a:ext cx="2590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MODERATE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strict gun use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Text Box 8"/>
          <p:cNvSpPr/>
          <p:nvPr/>
        </p:nvSpPr>
        <p:spPr>
          <a:xfrm>
            <a:off x="6629400" y="2666880"/>
            <a:ext cx="213372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RADICA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utlaw all gun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0" y="457200"/>
            <a:ext cx="91440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6172200" y="533520"/>
            <a:ext cx="2743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762120" y="6019920"/>
            <a:ext cx="25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Session 11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Text Box 6"/>
          <p:cNvSpPr/>
          <p:nvPr/>
        </p:nvSpPr>
        <p:spPr>
          <a:xfrm>
            <a:off x="304920" y="2209680"/>
            <a:ext cx="2819160" cy="34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TRADITIONA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ell phone use anywhere, any time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Text Box 7"/>
          <p:cNvSpPr/>
          <p:nvPr/>
        </p:nvSpPr>
        <p:spPr>
          <a:xfrm>
            <a:off x="3429000" y="2209680"/>
            <a:ext cx="2590920" cy="336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MODERATE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ell phone use while driving, only with hands free device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Text Box 8"/>
          <p:cNvSpPr/>
          <p:nvPr/>
        </p:nvSpPr>
        <p:spPr>
          <a:xfrm>
            <a:off x="6553080" y="2209680"/>
            <a:ext cx="2133720" cy="32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RADICA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 cell phone use by driver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0" y="457200"/>
            <a:ext cx="91440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6172200" y="533520"/>
            <a:ext cx="2743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Text Box 5"/>
          <p:cNvSpPr/>
          <p:nvPr/>
        </p:nvSpPr>
        <p:spPr>
          <a:xfrm>
            <a:off x="762120" y="6019920"/>
            <a:ext cx="25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Session 11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Text Box 6"/>
          <p:cNvSpPr/>
          <p:nvPr/>
        </p:nvSpPr>
        <p:spPr>
          <a:xfrm>
            <a:off x="380880" y="2362320"/>
            <a:ext cx="27432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TRADITIONA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 drug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Text Box 7"/>
          <p:cNvSpPr/>
          <p:nvPr/>
        </p:nvSpPr>
        <p:spPr>
          <a:xfrm>
            <a:off x="3429000" y="2362320"/>
            <a:ext cx="2590920" cy="35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MODERATE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imited use by responsible people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Text Box 8"/>
          <p:cNvSpPr/>
          <p:nvPr/>
        </p:nvSpPr>
        <p:spPr>
          <a:xfrm>
            <a:off x="6553080" y="2362320"/>
            <a:ext cx="2133720" cy="186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RADICA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y drug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0" y="457200"/>
            <a:ext cx="91440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Text Box 4"/>
          <p:cNvSpPr/>
          <p:nvPr/>
        </p:nvSpPr>
        <p:spPr>
          <a:xfrm>
            <a:off x="6172200" y="533520"/>
            <a:ext cx="2743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Text Box 5"/>
          <p:cNvSpPr/>
          <p:nvPr/>
        </p:nvSpPr>
        <p:spPr>
          <a:xfrm>
            <a:off x="762120" y="6019920"/>
            <a:ext cx="25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Session 11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Text Box 6"/>
          <p:cNvSpPr/>
          <p:nvPr/>
        </p:nvSpPr>
        <p:spPr>
          <a:xfrm>
            <a:off x="304920" y="2362320"/>
            <a:ext cx="28954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TRADITIONA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moking is O.K. everywhere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Text Box 7"/>
          <p:cNvSpPr/>
          <p:nvPr/>
        </p:nvSpPr>
        <p:spPr>
          <a:xfrm>
            <a:off x="3429000" y="2362320"/>
            <a:ext cx="2590920" cy="351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MODERATE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moking in approved area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Text Box 8"/>
          <p:cNvSpPr/>
          <p:nvPr/>
        </p:nvSpPr>
        <p:spPr>
          <a:xfrm>
            <a:off x="6553080" y="2362320"/>
            <a:ext cx="2133720" cy="27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RADICA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 smoking in public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6T23:21:45Z</dcterms:created>
  <dc:creator>Alica</dc:creator>
  <dc:description/>
  <dc:language>en-US</dc:language>
  <cp:lastModifiedBy>Leah Meza</cp:lastModifiedBy>
  <dcterms:modified xsi:type="dcterms:W3CDTF">2009-11-24T18:38:57Z</dcterms:modified>
  <cp:revision>18</cp:revision>
  <dc:subject/>
  <dc:title>Project TND  (Project Towards No Drug Abuse)</dc:title>
</cp:coreProperties>
</file>